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52B8-5C61-4249-819E-8F7F54383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6C93-2956-4394-AC31-59992D8B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035A-A22A-4544-9167-28C4903B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D341-3B53-48C4-9D9E-092A3F97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BD7F-2810-4490-95DF-93722104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3DD7-4821-476B-828B-401FB980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426F-B191-4994-9100-4DB09C6E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752B-CEA3-417C-9908-DA40CA8C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5276-26A2-4859-BEA5-3B827E4B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1ECC-E2E7-4E16-B681-D580309A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B4CC-3579-4A3B-AAC3-01FE5F2E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761D-6D24-4C12-8CD0-94696678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4C79-8D92-448E-8EE3-8BA62CAB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4161-893D-471A-853D-A22168C6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00DB-2C81-4343-987A-BE04A6FF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3494-14C9-4FA0-B1AA-6813512B6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33D0-46C1-44E0-A748-DAF00D282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83CF-ACE4-4456-BE10-25A08003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59F8-AA4B-4AF0-81BB-29D80B30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C438-0673-41DF-80C0-384F8902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741E-BE0F-41AE-BBD7-38AAD06D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0F10-B32E-49E7-8407-28B23C61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B9C5-3EB3-44D5-B205-DBF97E0D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EE96-B3B4-4DB7-9B53-FA3C3C10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39937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任意多边形 39938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任意多边形 39939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任意多边形 39940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圆角矩形 39941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25BC-E45F-44F7-9F36-F18EB23DC9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40961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任意多边形 40962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任意多边形 40963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任意多边形 40964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圆角矩形 4096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A965-A68C-497E-B6EE-2EED2B5C248A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六章   保险投资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440" y="20574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实物资产投资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最主要的是不动产投资，也包括一些机械设备等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三、我国保险投资的形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018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年《保险资金运用管理办法》明确规定保险资金运用限于下列形式： （一）银行存款； （二）买卖债券、股票、证券投资基金份额等有价证券； （三）投资不动产； （四）投资股权； （五）国务院规定的其他资金运用形式。 保险资金从事境外投资的，应当符合中国保监会、中国人民银行和国家外汇管理局的相关规定。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第四节 保险投资主体模式的选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公司内设投资机构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委托专业的投资机构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专业化保险资产管理公司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五节  保险投资风险的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政府对保险业投资风险的监管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对保险投资范围的限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对保险投资比例的限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对投资资产与负债的配比关系的限制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对金融衍生工具的使用限制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公司对投资风险的管理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制定合理的投资策略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资产分配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投资组合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资产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析保险投资的资金来源和性质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投资的一般条件约束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投资的特殊条件约束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我国保险投资的主要方式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作为保险监管机构应从哪些方面加强对保险公司投资风险的管理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应该如何制定保险投资策略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如何选择证券组合可以降低非系统性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利率免疫技术？保险公司如何运用利率免疫技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术防范债券投资的利率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一节  保险投资的资金来源与性质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保险投资资金的来源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自有资金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资本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积金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负债资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非寿险未到期责任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赔款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责任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储金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存入分保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长期责任准备金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投资资金的性质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负债性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稳定性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性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二节  保险投资的条件约束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投资的一般条件约束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安全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收益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流动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投资的特殊条件约束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称性条件约束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替代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散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转移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平衡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第三节   保险投资的形式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金融资产类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债权类投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债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贷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股权类投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cp:keywords/>
  <dc:language>en-US</dc:language>
  <cp:lastModifiedBy>苏菲的小猫</cp:lastModifiedBy>
  <dcterms:modified xsi:type="dcterms:W3CDTF">2020-05-25T05:50:13Z</dcterms:modified>
  <cp:revision>23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4</vt:lpwstr>
  </property>
</Properties>
</file>